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9B1-EF9C-461D-B633-1E787C7F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476-4DF0-46BD-A463-B14CB8DC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224-9A7A-41A4-A0A3-2F79D527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C1A-4B42-4B33-B28F-6D2532D2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1FA-D2D5-4402-827F-3A5B88C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2AB-1A80-4F64-89FD-A4DE043E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80E-0BE5-49EF-977F-2A1F21C2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548-B579-49C9-85A5-642B3355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347-086E-4D13-9F80-0BA73A3A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A1F-1D24-492A-94DC-F716F374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C03-0D81-4949-827C-6A87269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000-11C3-4AC5-973B-B7966A24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D101-2601-4EF4-B04B-3EFD246B62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Class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ary Ca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7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i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r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ul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mm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o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000" y="1600200"/>
            <a:ext cx="65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of the same social or economic lev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opt expression of p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uncil ho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i-detached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 manual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ube from the throat to the stoma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vel to and from daily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bourer who loads and unloads 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341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ull rh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ternal rh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s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43280" y="1341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ame or similar sound between words or the endings of words in lines of po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yme involving  a word in the middle of a line of poetry and a word at the end of the same line or in the middle of the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nal rhyme usually centred on vowel s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urrence of consonant sounds in close proximity in lines of poe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05:51Z</dcterms:modified>
  <cp:revision>41</cp:revision>
  <dc:subject/>
  <dc:title>La Belle Dame Sans Merci</dc:title>
</cp:coreProperties>
</file>